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38D-2A06-4186-B4F1-849F2056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FD9-BF60-46EE-876C-5CA467EC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364-716D-4478-8B68-1F97ACFC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A2C-4BB8-4574-92E3-9040AD4A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BCA-A459-4C58-A267-C22AD3A1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C66-415B-461B-8196-162885DF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F1E-276C-4A2C-96FA-442ACAF8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9F7-C7F1-465C-8EB0-2B1CF9CB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C72-8616-451F-863B-2B4C6111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D72-E02A-41B1-A2C8-9B1B0C9A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D6A1-3199-4A1C-A0D4-FF1B0D4B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CD3-EAC7-4E20-9548-FA2A74C6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56BE8-F0C0-4BB2-8856-2F146DFFE6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5B93F-F92B-487E-BB0D-3C6CDFDEC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04480"/>
            <a:ext cx="77724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etting At the Trut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Use logic to draw conclusions concerning Jeanie's day of causing trou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5244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anie was overheard talking to Betty about Samanth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If she's not wearing jeans, she's just not happy.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just so happens that Samantha was very happy that day and she did happen to have jeans 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Jeanie telling the truth? Support your answer with logic. Use symbolism to simplify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7342200" y="64882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35244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anie was overheard talking to Betty about Samanth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If she's not wearing jeans, she's just not happy."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just so happens that Samantha was very happy that day and she did happen to have jeans 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s Jeanie telling the truth? Support your answer with logic. Use symbolism to simplify your answ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 = wearing jeans q = happy Jeanie said ~p=&gt;~q In this case p is true and q is true, so Jeanie told the trut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7342200" y="64882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35244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anie then turned around and told Gloria that Betty had been talking about Samantha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 said, "If I am a gossip, then Betty must be three times worse!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ll know Jeanie is a gossip and this time she was telling the truth, so what else can we conclu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7342200" y="64882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5244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anie then turned around and told Gloria that Betty had been talking about Samantha!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e said, "If I am a gossip, then Betty must be three times worse!"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all know Jeanie is a gossip and this time she was telling the truth, so what else can we conclu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 = Jeanie is a gossip. q = Betty is three times worse. Jeanie said p=&gt;q which we are told is true and that p is true as well. So we can conclude Betty is three times wor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342200" y="64882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35244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loria told Jeanie that Samantha had borrowed Betty's jeans to wear that day. Jeanie was relieved that she had not told Betty that she didn't like the jean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Jeanie did tell Gloria however, "If Samantha asks me to borrow my jeans then I am going to tell her to forget it!"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ithin moments Samantha walks up to the girls and asks Jeanie if she can borrow some jeans from her to wear to the party Friday nigh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Jeanie said, "Sure!"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can we conclude about Jeanie, other than the fact that she is a habitual gossiper and backstabbe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7342200" y="64882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52440"/>
            <a:ext cx="8229600" cy="613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ria told Jeanie that Samantha had borrowed Betty's jeans to wear that day. Jeanie was relieved that she had not told Betty that she didn't like the jea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anie did tell Gloria however, "If Samantha asks me to borrow my jeans then I am going to tell her to forget it!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in moments Samantha walks up to the girls and asks Jeanie if she can borrow some jeans from her to wear to the party Friday n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anie said, "Sure!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can we conclude about Jeanie, other than the fact that she is a habitual gossiper and backstabb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p = Samantha asks to borrow my jeans. q = I am going to tell her to forget it. Jeanie says p=&gt;q. We know p is true and q is false. So we can conclude that Jeanie lied since she made a false stat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7342200" y="64882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5244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mantha also asked Jeanie what she thought of the jeans she was wear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anie replied, "I love them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mantha said, "Are you sure?"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Well of course."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Please tell the truth," Samantha pleade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anie then said, "I will tell the truth if and only if you lend me that shirt to wear to the party."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anie went on to assure her that the jeans were great, which was an outright lie. Is there anything Samantha can do to make Jeanie's last statement tru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7342200" y="64882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35244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mantha also asked Jeanie what she thought of the jeans she was wear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ie replied, "I love them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mantha said, "Are you sure?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ell of course.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Please tell the truth," Samantha plead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ie then said, "I will tell the truth if and only if you lend me that shirt to wear to the party.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ie went on to assure her that the jeans were great, which was an outright lie. Is there anything Samantha can do to make Jeanie's last statement tru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 = Jeanie will tell the truth. q = Samantha lends Jeanie the shirt for the party. Jeanie basically says p&lt;=&gt;q. Jeanie lies, so p is false.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refore the only thing Samantha can do to redeem Jeanie is to not lend her the shirt.  Then Jeanie's statement would still be tr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7342200" y="64882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1:41:31Z</dcterms:created>
  <dc:creator>Salem High School</dc:creator>
  <dc:description/>
  <dc:language>en-US</dc:language>
  <cp:lastModifiedBy>Salem High School</cp:lastModifiedBy>
  <dcterms:modified xsi:type="dcterms:W3CDTF">2011-09-26T12:18:08Z</dcterms:modified>
  <cp:revision>6</cp:revision>
  <dc:subject/>
  <dc:title>Getting At the Truth </dc:title>
</cp:coreProperties>
</file>